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F294-75B0-491F-A8EF-DDEB23FBB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5A25-E506-4FE6-8437-E5B58D0BF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E7F8-9680-4D74-A5C5-265F6799B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AF46-B074-427C-A327-3E829B166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14616-AB77-4390-A2B6-AC4920020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EABC1-9AA0-4E16-8364-06561E960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448F4-996D-428D-8E8A-B089F96C0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61297-60BC-46F9-A75A-E7231326E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94C35-4FDA-4FD6-8C87-6EFF9277C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C9B3C-40AF-4D27-AA10-16FAC4365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39658-9795-4B5F-AB9D-BA6945C2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8D43-8056-47C3-8FC3-58074814A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49FD8-E9C3-487D-BFD9-DFC9F231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18E8F-F02B-4C27-8F4D-90B9CBE6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876DD-1D11-4C0F-A93E-E797AB1C7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7AC98-D41F-4816-AA16-09AEF4719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1F094-CDC0-40B5-932E-7165D9850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748E-140D-4956-AFA6-7F982B17B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940D-E7E7-44A9-B1C1-6C3CD147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6A00-9A95-43C4-9278-09851E239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6B0A-AFE2-4E3A-AAD2-E939C82F9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1302-C1A7-4352-9421-8F0714D1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A5A9-2C20-42EF-81F0-9B5E3F63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7824-0848-41C2-BB04-DC6F05AA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B8C2B-3409-4AD9-A46A-47803DD5C27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3ABD4-F9F8-4032-A2AB-FCA8A6CCBF50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4038480"/>
            <a:ext cx="6966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Выполнила: учитель начальных классов МБОУ «СОШ № 2» Локтева Н.В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Picture 6" descr="C:\Users\Учитель\Downloads\1613463664_49-p-fon-dlya-prezentatsii-pro-volonterov-63.jpg"/>
          <p:cNvPicPr/>
          <p:nvPr/>
        </p:nvPicPr>
        <p:blipFill>
          <a:blip r:embed="rId1"/>
          <a:stretch/>
        </p:blipFill>
        <p:spPr>
          <a:xfrm>
            <a:off x="685800" y="0"/>
            <a:ext cx="7010280" cy="43434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263520" y="76320"/>
            <a:ext cx="56800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Мы сегодня говорили о волонтёрах?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Заголовок 1"/>
          <p:cNvSpPr/>
          <p:nvPr/>
        </p:nvSpPr>
        <p:spPr>
          <a:xfrm>
            <a:off x="6553080" y="990720"/>
            <a:ext cx="1295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50400" indent="-50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Да</a:t>
            </a:r>
            <a:br>
              <a:rPr sz="3200"/>
            </a:b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Заголовок 1"/>
          <p:cNvSpPr/>
          <p:nvPr/>
        </p:nvSpPr>
        <p:spPr>
          <a:xfrm>
            <a:off x="6553080" y="1600200"/>
            <a:ext cx="1295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42840" indent="-42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ет</a:t>
            </a:r>
            <a:br>
              <a:rPr sz="3200"/>
            </a:b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Заголовок 1"/>
          <p:cNvSpPr/>
          <p:nvPr/>
        </p:nvSpPr>
        <p:spPr>
          <a:xfrm>
            <a:off x="6553080" y="2362320"/>
            <a:ext cx="1295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79920" indent="-79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Да</a:t>
            </a:r>
            <a:br>
              <a:rPr sz="3200"/>
            </a:b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Заголовок 1"/>
          <p:cNvSpPr/>
          <p:nvPr/>
        </p:nvSpPr>
        <p:spPr>
          <a:xfrm>
            <a:off x="6553080" y="3505320"/>
            <a:ext cx="1295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79920" indent="-79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Да</a:t>
            </a:r>
            <a:br>
              <a:rPr sz="3200"/>
            </a:b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8" name="Объект 2"/>
          <p:cNvSpPr/>
          <p:nvPr/>
        </p:nvSpPr>
        <p:spPr>
          <a:xfrm>
            <a:off x="263520" y="990720"/>
            <a:ext cx="6137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олонтёр – это доброволец?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" name="Объект 2"/>
          <p:cNvSpPr/>
          <p:nvPr/>
        </p:nvSpPr>
        <p:spPr>
          <a:xfrm>
            <a:off x="263520" y="1676520"/>
            <a:ext cx="6137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олонтёр может быть злым?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Объект 2"/>
          <p:cNvSpPr/>
          <p:nvPr/>
        </p:nvSpPr>
        <p:spPr>
          <a:xfrm>
            <a:off x="263520" y="2286000"/>
            <a:ext cx="6289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Доброволец помогает людям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1" name="Объект 2"/>
          <p:cNvSpPr/>
          <p:nvPr/>
        </p:nvSpPr>
        <p:spPr>
          <a:xfrm>
            <a:off x="263520" y="2895480"/>
            <a:ext cx="6442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имвол волонтёра – это открытая ладонь?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" name="Заголовок 1"/>
          <p:cNvSpPr/>
          <p:nvPr/>
        </p:nvSpPr>
        <p:spPr>
          <a:xfrm>
            <a:off x="6553080" y="225360"/>
            <a:ext cx="14479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64800" indent="-64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Да</a:t>
            </a:r>
            <a:br>
              <a:rPr sz="3200"/>
            </a:b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Используемые материалы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https://stand.hitplayer.ru/?s=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гимн%20волонтеров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https://youtu.be/hr2rCo2tpm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https://ru.wikipedia.org/wiki/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олонтёр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На бульваре бабушки </a:t>
            </a:r>
            <a:br>
              <a:rPr sz="2400"/>
            </a:b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Баюкают внучат, </a:t>
            </a:r>
            <a:br>
              <a:rPr sz="2400"/>
            </a:b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оют внучатам ладушки, </a:t>
            </a:r>
            <a:br>
              <a:rPr sz="2400"/>
            </a:b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А малыши кричат…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Что ж, опять на выручку </a:t>
            </a:r>
            <a:br>
              <a:rPr sz="2400"/>
            </a:b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овку нужно звать. </a:t>
            </a:r>
            <a:br>
              <a:rPr sz="2400"/>
            </a:b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— Вовка — добрая душа, </a:t>
            </a:r>
            <a:br>
              <a:rPr sz="2400"/>
            </a:b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озабавь-ка малыша!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одошел он к бабушкам, </a:t>
            </a:r>
            <a:br>
              <a:rPr sz="2400"/>
            </a:b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стал он с ними рядышком, </a:t>
            </a:r>
            <a:br>
              <a:rPr sz="2400"/>
            </a:b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друг запрыгал и запел: </a:t>
            </a:r>
            <a:br>
              <a:rPr sz="2400"/>
            </a:b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— Ладушки, ладушки!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6" name="Picture 7" descr="8_a61bb74de95d7bafe8a23ef56cc5f8b6_1463897255"/>
          <p:cNvPicPr/>
          <p:nvPr/>
        </p:nvPicPr>
        <p:blipFill>
          <a:blip r:embed="rId1"/>
          <a:stretch/>
        </p:blipFill>
        <p:spPr>
          <a:xfrm>
            <a:off x="4572000" y="1523880"/>
            <a:ext cx="4572000" cy="533412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-360" y="2362320"/>
            <a:ext cx="77677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КТО ЖЕ ТАКИЕ ВОЛОНТЁРЫ?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25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В ВикипендиИ написано:</a:t>
            </a:r>
            <a:br>
              <a:rPr sz="3200"/>
            </a:br>
            <a:r>
              <a:rPr b="0" lang="ru-RU" sz="3200" spc="-1" strike="noStrike" u="sng">
                <a:solidFill>
                  <a:srgbClr val="f7d47d"/>
                </a:solidFill>
                <a:uFillTx/>
                <a:latin typeface="Arial"/>
              </a:rPr>
              <a:t>Волонтёр</a:t>
            </a: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 — человек, добровольно занимающийся за свой счет безвозмездной общественно полезной деятельностью.</a:t>
            </a:r>
            <a:br>
              <a:rPr sz="3200"/>
            </a:b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1" name="Picture 6" descr="0a641dffe147ed037430e1cd6856b861"/>
          <p:cNvPicPr/>
          <p:nvPr/>
        </p:nvPicPr>
        <p:blipFill>
          <a:blip r:embed="rId1"/>
          <a:stretch/>
        </p:blipFill>
        <p:spPr>
          <a:xfrm>
            <a:off x="457200" y="2666880"/>
            <a:ext cx="6572160" cy="3286080"/>
          </a:xfrm>
          <a:prstGeom prst="rect">
            <a:avLst/>
          </a:prstGeom>
          <a:ln w="0">
            <a:noFill/>
          </a:ln>
        </p:spPr>
      </p:pic>
      <p:pic>
        <p:nvPicPr>
          <p:cNvPr id="202" name="ВОЛОНТЁРЫ - Гимн Волонтеров (www.hotplayer.ru).mp3" descr=""/>
          <p:cNvPicPr/>
          <p:nvPr/>
        </p:nvPicPr>
        <p:blipFill>
          <a:blip r:embed="rId2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5 декабря – День волонтёра России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4" name="Picture 7" descr="tn_237929_72a8fdd0df0ca"/>
          <p:cNvPicPr/>
          <p:nvPr/>
        </p:nvPicPr>
        <p:blipFill>
          <a:blip r:embed="rId1"/>
          <a:stretch/>
        </p:blipFill>
        <p:spPr>
          <a:xfrm>
            <a:off x="0" y="2719440"/>
            <a:ext cx="7924680" cy="4138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6" name="Супер физкультминутка для урока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НАПРАВЛЕНИЯ ВОЛОНТЁРСКОЙ ДЕЯТЕЛЬНОСТИ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охрана природы и сохранение чистоты окружающей среды;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оказание помощи престарелым, инвалидам, детям-сиротам…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благоустройство улиц, домов, зеленых участков;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омощь животным, поддержание заповедников и зоопарков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интернет - добровольчество, примером которой является ВикипедиЯ и т.д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Добровольцем быть просто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https://youtu.be/hr2rCo2tpm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ХОЧУ БЫТЬ ВОЛОНТЁРОМ!!!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0" y="1598760"/>
            <a:ext cx="7650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МОЖНО начинать с малого: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зимой можно кормить птиц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весной, вместе с классом или родителями, участвовать в субботниках и сажать цветы и деревья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собирать макулатуру и, тем самым, спасать деревья от вырубки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оздравлять ветеранов с праздником 9 Мая и т.д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2T14:47:46Z</dcterms:created>
  <dc:creator>Dmitriy</dc:creator>
  <dc:description/>
  <dc:language>en-US</dc:language>
  <cp:lastModifiedBy>Admin</cp:lastModifiedBy>
  <dcterms:modified xsi:type="dcterms:W3CDTF">2021-09-08T15:58:17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